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AC0B-AEEE-49AF-BE31-754A88D5A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2D21-ED35-474E-80FA-26AB91D27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B5A5-8547-4DE7-91A2-A3592C44E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07CA-4429-44FC-AD9E-C92A84398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4712-F746-4141-A714-EB415C00B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E768-19D7-405F-8C7D-827857A82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FF36-DDE0-4A49-861B-5CDECD1EF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7C18-85E2-4673-92EC-85DDCCACD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D59A-934A-4724-9293-800F02470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6DFD-9BE5-4DE8-82AA-2925E183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647A-8C8A-4827-B246-67C1275FA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6A3E-7179-4ECA-AB7E-F51C56D9E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74840" y="65275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20016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9933"/>
                </a:solidFill>
                <a:latin typeface="Trebuchet MS"/>
              </a:rPr>
              <a:t> </a:t>
            </a:r>
            <a:r>
              <a:rPr b="0" lang="en-US" sz="1300" spc="-1" strike="noStrike">
                <a:solidFill>
                  <a:srgbClr val="cc99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9200" y="457200"/>
            <a:ext cx="914400" cy="13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79640" y="2062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9933"/>
                </a:solidFill>
                <a:latin typeface="Trebuchet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74A-A66D-4571-88ED-7628CD97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Eight Guiding Principles for CLIPs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131560"/>
            <a:ext cx="7620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nduct inquiry that enhances student learning and succes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sk questions that matt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reate a safe, hospitable, engaging environment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courage and appreciate each person’s unique contribu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2p020.4-16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DD15-ACBB-4A1C-A876-75CFE367F7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rebuchet MS"/>
              </a:rPr>
              <a:t>Eight Guiding Principles for CLIPs</a:t>
            </a:r>
            <a:endParaRPr b="0" lang="en-US" sz="3200" spc="-1" strike="noStrike">
              <a:solidFill>
                <a:srgbClr val="cc99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3962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uild relationships that rejuvenate professional pract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reate authentic, open-minded dialogue that brings out diverse perspectiv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gage in individual and collective reflec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-542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rate sustained, inquiry-based pract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2p020.4-16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9951-85D2-4C5C-B1CD-BDD3F95812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5-21T16:54:24Z</dcterms:modified>
  <cp:revision>6</cp:revision>
  <dc:subject/>
  <dc:title>PowerPoint Presentation</dc:title>
</cp:coreProperties>
</file>