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F593-D238-442F-BA3A-2D5D7A701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C70B-F52C-4983-A472-DAF110C74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C2EC-5BCE-45C7-A7E1-6BCD6A46B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497C-8C54-4F07-8A86-2AABDE755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B2F5-0B24-4C58-BD4F-6F58F1036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3190-DB97-4580-A2F0-1DA6A1931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AE61-41CD-4F6F-A91E-31AB544AD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F995-6B69-4F83-8449-454AE655E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6AD2-3CA3-4D77-9703-F78BA8898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F8E6-8715-406F-8F77-97E83228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7690-FB81-4D17-AEF6-2AA53807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758B-6F7C-43AF-9465-A9AEBA239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33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33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336666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948-A409-4BB7-81CB-8CD79C5B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13460" t="20662" r="26197" b="20662"/>
          <a:stretch/>
        </p:blipFill>
        <p:spPr>
          <a:xfrm>
            <a:off x="368280" y="584280"/>
            <a:ext cx="95904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90720" y="1522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66"/>
                </a:solidFill>
                <a:latin typeface="Trebuchet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760" y="330120"/>
            <a:ext cx="109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66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focus on and strengthen what is valuable and meaningful for student learning and suc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096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1. Conduct an inquiry that enhances student learning and su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C9F3-BE98-4484-8AA3-717A8A3960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2860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questions in your data collection tools align well with your overall inquiry ques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 questions in your data collections tools likely to lead to a deeper understanding about valued and meaningful issu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9810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2. Ask questions tha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286C-FE5D-49CA-9B8A-6AD087F48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9810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3. Create a safe, hospitable, </a:t>
            </a:r>
            <a:br>
              <a:rPr sz="3200"/>
            </a:b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engaging environment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ll your data collection be conducted in a trusting environment where people with differing perspectives feel physically and emotionally saf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ll your data collection be conducted in familiar surroundings to increase the comfort of your sourc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your data collection process designed to be conducted at a pace and with responsibilities that are reasonable for your sources and those collecting the data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6000-EA9A-45D5-98E5-8B16663FF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process provide a means for CLIP members to contribute in ways that allow for each person’s uniqueness and specific circumstanc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4. Encourage and appreciate each person’s unique contribution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685800"/>
            <a:ext cx="6476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C462-C783-480A-B9E4-6C4A9A2F1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30477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your data collection process provide a means to build relationships within the CLIP and with others in order to generate and spread creative ideas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your data collection process provide a means to encourage renewal and innovation in learning and practice to keep pace with changing social conditions, knowledge, and student population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5.  Build relationships that rejuvenate professional practice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2604-BA05-45D2-8D52-2E461F521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process allow for the unexpected? Does it allow for a diversity of participants and points of view to be heard?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2096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6. Create authentic, open-minded dialogue that brings out diverse perspectives.</a:t>
            </a:r>
            <a:r>
              <a:rPr b="0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F611-6E78-4E7C-BBCB-2E870E97D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approach provide for individual and collective reflective listening, observing, and thinking as a way to evoke deep insights and see emerging patterns and connec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7. Engage in individual and collective reflection.</a:t>
            </a:r>
            <a:r>
              <a:rPr b="0" lang="en-US" sz="32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27E7-CD2E-460E-9C0C-329FCA3FD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approach attend to relationships, logical thinking, and the intentions that create meaningful, ongoing action to benefit students over tim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1337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8. Generate sustained, </a:t>
            </a:r>
            <a:br>
              <a:rPr sz="3200"/>
            </a:b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inquiry-based practice.</a:t>
            </a:r>
            <a:r>
              <a:rPr b="0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B6E1-4334-42A3-8654-29734DCE2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7:35Z</dcterms:modified>
  <cp:revision>15</cp:revision>
  <dc:subject/>
  <dc:title>PowerPoint Presentation</dc:title>
</cp:coreProperties>
</file>