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C908-E3CB-47D2-BD3B-521F90D2C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F6FC-BBAA-4FA9-815F-3606D6459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6982-E574-4477-BE83-285E39B2A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3DC3-B805-46BE-AA35-4B14BFF21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D702-2F8D-473E-8B30-312595D04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1C9B-C4E4-45A4-ABC0-7BD30FD5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4649-A66E-4A80-8752-37108AA6A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0BF5-D69D-4BE9-8D73-31B5D25D2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5BAE-D5DA-4B5D-902F-032839E57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9025-C824-4581-AEA8-C5B131E95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B887-D5FF-4C3A-8CFB-37FC54A6F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5CA5-D37B-4451-B418-E3C1BC5CD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33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57F-792F-47CB-9CAB-6EABD9F91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11040" y="584280"/>
            <a:ext cx="92736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39680" y="177840"/>
            <a:ext cx="673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01600" y="31428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33"/>
                </a:solidFill>
                <a:latin typeface="Trebuchet MS"/>
              </a:rPr>
              <a:t>Roles of CLIP Members</a:t>
            </a:r>
            <a:endParaRPr b="0" lang="en-US" sz="36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0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9F2C-3310-40D6-B2EA-288A2EC168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4:50Z</dcterms:modified>
  <cp:revision>20</cp:revision>
  <dc:subject/>
  <dc:title>PowerPoint Presentation</dc:title>
</cp:coreProperties>
</file>