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3561-7CFF-4ED7-857C-FA555F3DD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FC47-BAC5-4CD0-8CE8-CD82D8FF9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13FA-07AA-45E2-AC23-4341F6B20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D2E9-1E22-4D36-B804-DA5B7E865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7FE3-2D61-4689-B976-671B29BBC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B751-991A-41A7-9E82-91834E4B1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058B-032A-4B86-8741-4A8982E1D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46B2-2633-452D-AB03-A522940EE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6E44-91B6-47A6-9AC9-DA3431EA8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B562-014F-4CE0-A517-7D75C8E7E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5214-820C-4E62-9306-06FAD3430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3342-3360-4C8D-A6C0-EAB44364D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354D-754B-4774-86E1-66DBD116E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34800" y="615960"/>
            <a:ext cx="973440" cy="1212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079640" y="856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Trebuchet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08080" y="35892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         </a:t>
            </a: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2394000"/>
          <a:ext cx="7925040" cy="3524040"/>
        </p:xfrm>
        <a:graphic>
          <a:graphicData uri="http://schemas.openxmlformats.org/drawingml/2006/table">
            <a:tbl>
              <a:tblPr/>
              <a:tblGrid>
                <a:gridCol w="914400"/>
                <a:gridCol w="1447920"/>
                <a:gridCol w="1035000"/>
                <a:gridCol w="1130400"/>
                <a:gridCol w="1133280"/>
                <a:gridCol w="1130400"/>
                <a:gridCol w="113364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quiry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formation Needed to Answer Inquiry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Collection Meth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ta Colle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ming and Location of Data Col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lan for Meaning Making from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23000" y="2025720"/>
            <a:ext cx="47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Georgia"/>
              </a:rPr>
              <a:t>Gathering Data and Making Meaning from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80.4-20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191B-C77C-41E7-9DC9-C3367E8FE9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2278080"/>
          <a:ext cx="6858000" cy="3691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Assistance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ssible 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950040" y="1924200"/>
            <a:ext cx="515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Georgia"/>
              </a:rPr>
              <a:t>Assistance Needed to Carry out Data Collection 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80.4-20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617E-FE7A-46C2-85BF-40860154AD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49400" y="2311560"/>
          <a:ext cx="7086600" cy="3458880"/>
        </p:xfrm>
        <a:graphic>
          <a:graphicData uri="http://schemas.openxmlformats.org/drawingml/2006/table">
            <a:tbl>
              <a:tblPr/>
              <a:tblGrid>
                <a:gridCol w="1417680"/>
                <a:gridCol w="1415880"/>
                <a:gridCol w="1417680"/>
                <a:gridCol w="1417680"/>
                <a:gridCol w="141768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 do these discoverie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tter t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 can take action on these discover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will we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/Where will we 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will we  shar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19800" y="19303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Georgia"/>
              </a:rPr>
              <a:t>Sharing CLIP Disco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80.4-20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5556-1693-4269-A2C5-231C41504D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P Inquiry Plan Template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1360" y="2236680"/>
          <a:ext cx="7772400" cy="3706560"/>
        </p:xfrm>
        <a:graphic>
          <a:graphicData uri="http://schemas.openxmlformats.org/drawingml/2006/table">
            <a:tbl>
              <a:tblPr/>
              <a:tblGrid>
                <a:gridCol w="1297080"/>
                <a:gridCol w="1293840"/>
                <a:gridCol w="1297080"/>
                <a:gridCol w="1293840"/>
                <a:gridCol w="1296720"/>
                <a:gridCol w="129384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actions are needed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 will these actions improve student learning and succes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ose needs to tak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w will we involve the necessary peopl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are these actions needed (consider both short and long term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additional inquiries are needed regarding th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91480" y="1873080"/>
            <a:ext cx="23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Georgia"/>
              </a:rPr>
              <a:t>Using CLIP Discov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80.4-20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429B-29E3-4AE0-AA6B-BC8C78F1A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20:10:03Z</dcterms:modified>
  <cp:revision>10</cp:revision>
  <dc:subject/>
  <dc:title>PowerPoint Presentation</dc:title>
</cp:coreProperties>
</file>