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4141-0544-4776-9023-D0A6CD009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42EE-FA43-488E-878E-1079DCA3D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17F2-54C8-428D-B947-439563CA0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A76C-D6F1-4B6F-A3E6-EF2D8F8FA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C090-4331-416F-9B82-03DD926CBF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5509-ECE8-4397-A277-9EE545582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CC93-D2A5-4837-B037-F9701F83F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09DE-1E68-45DE-A541-E9F4C0D43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9517-AA22-4C63-BA86-197CBA808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D540-81E4-4412-B18F-29710F2D5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7DFA-F4D2-4739-ABB5-EE9345046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FFF6-DE7F-4382-BEB9-175054FB3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00999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00999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009999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488D-2377-4941-B62C-C5DFA9746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34800" y="615960"/>
            <a:ext cx="973440" cy="1212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079640" y="85680"/>
            <a:ext cx="672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Trebuchet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08080" y="358920"/>
            <a:ext cx="1231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         </a:t>
            </a: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37335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inquiry focus on and strengthen what is valuable and meaningful for student learning and succes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36232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1. Conduct an inquiry that enhances student learning and succ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39BAD-9EE4-4823-92CD-5B2AEEC355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 your questions focus on issues related to student learning and success that you, students, and others truly care about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 your questions lead to deeper understanding about valued and meaningful issue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1981080"/>
            <a:ext cx="6477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2. Ask questions that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038D-B05F-4AF2-B1D4-1C15025DBC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895480"/>
            <a:ext cx="88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es your inquiry design help to create a trusting environment where people with differing perspectives feel physically and emotionally saf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 your inquiry designed to include familiar as well as new ideas and events?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 your inquiry designed to be conducted at a pace that is reasonable for all involved? Are the roles/responsibilities reasonable for all involved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05740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3. Create a safe, hospitable, </a:t>
            </a:r>
            <a:br>
              <a:rPr sz="3200"/>
            </a:b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engaging environment.</a:t>
            </a: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7FE0-6DC3-4F9D-BF21-5E7F5126BE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inquiry plan provide a means for everyone to contribute in ways that allow for each person’s uniqueness and specific circumstance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13372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 </a:t>
            </a: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4. Encourage and appreciate each person’s unique contribution.</a:t>
            </a: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8018-466E-4ADF-9142-54276DCD61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31240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es your inquiry plan provide a means to build relationships within the CLIP and with others in order to generate and spread creative ideas?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es your inquiry plan provide a means to encourage renewal and innovation in learning and practice to keep pace with changing social conditions, knowledge, and student population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2209680"/>
            <a:ext cx="6477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5.  Build relationships that rejuvenate professional practice.</a:t>
            </a: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5E46-7936-4092-B824-0A9D4302C4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37335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inquiry plan allow for the unexpected? Does it allow for a diversity of participants and points of view to be heard?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362320"/>
            <a:ext cx="8001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6. Create authentic, open-minded dialogue that brings out diverse perspectives.</a:t>
            </a:r>
            <a:r>
              <a:rPr b="0" lang="en-US" sz="3200" spc="-1" strike="noStrike">
                <a:solidFill>
                  <a:srgbClr val="009999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2AE1-33BE-4BCC-B064-2391343E9B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endParaRPr b="0" lang="en-US" sz="36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inquiry plan provide for individual and collective reflective listening, observing, and thinking as a way to evoke deep insights and see emerging patterns and connection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1981080"/>
            <a:ext cx="6095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7. Engage in individual and collective reflection.</a:t>
            </a: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C3E23-11EB-44A6-973A-F9F1F28121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rebuchet MS"/>
              </a:rPr>
              <a:t>Reflection Questions Concerning Design Decisions</a:t>
            </a: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your inquiry plan attend to relationships, logical thinking, and the will to act in ways that will generate meaningful, ongoing professional practice to benefit student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133720"/>
            <a:ext cx="8686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8. Generate sustained, </a:t>
            </a:r>
            <a:br>
              <a:rPr sz="3200"/>
            </a:br>
            <a:r>
              <a:rPr b="0" i="1" lang="en-US" sz="3200" spc="-1" strike="noStrike">
                <a:solidFill>
                  <a:srgbClr val="009999"/>
                </a:solidFill>
                <a:latin typeface="Georgia"/>
              </a:rPr>
              <a:t>inquiry-based practice.</a:t>
            </a:r>
            <a:r>
              <a:rPr b="0" lang="en-US" sz="3200" spc="-1" strike="noStrike">
                <a:solidFill>
                  <a:srgbClr val="009999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90.4-20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F931-4C84-4C71-A17A-777482AB06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20:08:14Z</dcterms:modified>
  <cp:revision>13</cp:revision>
  <dc:subject/>
  <dc:title>PowerPoint Presentation</dc:title>
</cp:coreProperties>
</file>