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C68F-0BA2-4DA0-8877-BF8B2D89D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8093-DE1C-4FCD-9F83-160482C4A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2F61-5D59-4200-B3EE-FE1D08BBF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2CAD-1B66-441B-8C9F-7754259577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44B2-74E6-4276-B805-4C4FD4A852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7677-6130-4004-929B-E90A926C9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5631-A4D1-4C10-89FD-408BAEE00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939F-981C-4A59-BA03-A8CE466D1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C7CE-7DA3-43BD-857E-DDC27D76D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9431-21AB-4FED-88E8-B7858808B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BCAC-71FF-47DF-8D91-D4DFC6E22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44D0-4825-4342-B7CD-70A04793C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34B2-74BF-4458-A71C-5621BED7B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34800" y="615960"/>
            <a:ext cx="973440" cy="1212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079640" y="856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Trebuchet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08080" y="35892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         </a:t>
            </a: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2394000"/>
          <a:ext cx="7925040" cy="3524040"/>
        </p:xfrm>
        <a:graphic>
          <a:graphicData uri="http://schemas.openxmlformats.org/drawingml/2006/table">
            <a:tbl>
              <a:tblPr/>
              <a:tblGrid>
                <a:gridCol w="914400"/>
                <a:gridCol w="1447920"/>
                <a:gridCol w="1035000"/>
                <a:gridCol w="1130400"/>
                <a:gridCol w="1133280"/>
                <a:gridCol w="1130400"/>
                <a:gridCol w="113364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quiry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formation Needed to Answer Inquiry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Collection Meth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Colle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iming and Location of Data Col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lan for Meaning Making from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23000" y="2025720"/>
            <a:ext cx="47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Georgia"/>
              </a:rPr>
              <a:t>Gathering Data and Making Meaning from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80.4-20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8432-6657-4969-BFB8-2006ABD802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2278080"/>
          <a:ext cx="6858000" cy="36910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Assistance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ssible 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950040" y="1924200"/>
            <a:ext cx="515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Georgia"/>
              </a:rPr>
              <a:t>Assistance Needed to Carry out Data Collection 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80.4-20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464B-71F2-4EA7-9428-89E09A3A8E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49400" y="2311560"/>
          <a:ext cx="7086600" cy="3458880"/>
        </p:xfrm>
        <a:graphic>
          <a:graphicData uri="http://schemas.openxmlformats.org/drawingml/2006/table">
            <a:tbl>
              <a:tblPr/>
              <a:tblGrid>
                <a:gridCol w="1417680"/>
                <a:gridCol w="1415880"/>
                <a:gridCol w="1417680"/>
                <a:gridCol w="1417680"/>
                <a:gridCol w="141768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 do these discoverie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tter t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 can take action on these discover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will we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/Where will we 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will we 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19800" y="19303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Georgia"/>
              </a:rPr>
              <a:t>Sharing CLIP Discov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80.4-20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AD27-A2F7-41AD-B5BA-09EA1A66DD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1360" y="2236680"/>
          <a:ext cx="7772400" cy="3706560"/>
        </p:xfrm>
        <a:graphic>
          <a:graphicData uri="http://schemas.openxmlformats.org/drawingml/2006/table">
            <a:tbl>
              <a:tblPr/>
              <a:tblGrid>
                <a:gridCol w="1297080"/>
                <a:gridCol w="1293840"/>
                <a:gridCol w="1297080"/>
                <a:gridCol w="1293840"/>
                <a:gridCol w="1296720"/>
                <a:gridCol w="129384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actions are needed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 will these actions improve student learning and succes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se needs to take a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 will we involve the necessary peopl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are these actions needed (consider both short and long term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additional inquiries are needed regarding the a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91480" y="1873080"/>
            <a:ext cx="23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Georgia"/>
              </a:rPr>
              <a:t>Using CLIP Discov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80.4-20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6271-7A0B-4D0C-96CF-7DF945023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20:10:03Z</dcterms:modified>
  <cp:revision>10</cp:revision>
  <dc:subject/>
  <dc:title>PowerPoint Presentation</dc:title>
</cp:coreProperties>
</file>