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149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34320" y="632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955-73BB-45B9-83CC-D3F98631A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is important to you about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draws you to involvement in a CLIP and inquiry about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opportunities do you see in this CLIP inquiry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do we know so far and what do we still need to know about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assumptions do we have about student learning and success that we need to test or challeng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are some beliefs about student learning and success that are very different from our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question, if answered, could make a major difference in terms of student learning and success among our first year student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needs our immediate attention related to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30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nk about a student(s) you know who has succeeded at this college. What contribution did you make to this student’s success?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at do you value about your role? What are three wishes you hold for your department/college in relation to student learning and succes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8-01T23:27:49Z</dcterms:modified>
  <cp:revision>8</cp:revision>
  <dc:subject/>
  <dc:title>PowerPoint Presentation</dc:title>
</cp:coreProperties>
</file>