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74840" y="65019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34800" y="615960"/>
            <a:ext cx="973440" cy="12128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79640" y="85680"/>
            <a:ext cx="672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Trebuchet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8080" y="358920"/>
            <a:ext cx="1231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         </a:t>
            </a: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934320" y="63244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60C-E1FE-4246-AA05-8F805D35A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Facilitating Peer Study Groups in STEM Courses (Sample Concept Map)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0880" y="2209680"/>
            <a:ext cx="8382240" cy="3071880"/>
            <a:chOff x="380880" y="2209680"/>
            <a:chExt cx="8382240" cy="3071880"/>
          </a:xfrm>
        </p:grpSpPr>
        <p:sp>
          <p:nvSpPr>
            <p:cNvPr id="48" name=""/>
            <p:cNvSpPr/>
            <p:nvPr/>
          </p:nvSpPr>
          <p:spPr>
            <a:xfrm flipV="1">
              <a:off x="1360440" y="3430080"/>
              <a:ext cx="0" cy="6541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6804000" y="3746520"/>
              <a:ext cx="434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2209680"/>
              <a:ext cx="20145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Previous Assumptio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Student participation in instructor-led discussion sessions correlates positively with test score and homework completion rat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57440" y="3322800"/>
              <a:ext cx="2286000" cy="86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</a:rPr>
                <a:t>Inquiry foc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What are the peer study needs of STEM students, and how can those be addressed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88120" y="4410000"/>
              <a:ext cx="1633320" cy="847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Faculty create formal peer study groups and assign students to them. (op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8320" y="4084560"/>
              <a:ext cx="1633680" cy="11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Some students who attended faculty discussion sessions took the information to friends in informal study group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2286000"/>
              <a:ext cx="1752480" cy="81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Students join informal peer study groups if they wish and if they find on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232000" y="4191120"/>
              <a:ext cx="434880" cy="4381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43080" y="3757680"/>
              <a:ext cx="4366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80120" y="3430440"/>
              <a:ext cx="1631880" cy="654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Students need opportunities to join peer study group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24440" y="4084560"/>
              <a:ext cx="0" cy="325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149880" y="3105000"/>
              <a:ext cx="0" cy="325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38880" y="3322800"/>
              <a:ext cx="1524240" cy="868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Faculty or students inform students of informal peer study groups. (op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6912000" y="3105000"/>
              <a:ext cx="326880" cy="325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p045.4-2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18:20:01Z</dcterms:modified>
  <cp:revision>9</cp:revision>
  <dc:subject/>
  <dc:title>PowerPoint Presentation</dc:title>
</cp:coreProperties>
</file>