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E3D7-F6AB-4806-B971-22D57A193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801B-3156-49E3-934A-C44706FCF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CA1D-586B-4ACC-A9B4-917147A5B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0899-36AE-49B4-B7B4-A30C98F21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961F-929F-4DFD-997F-70C1BDDDF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20FE-3D34-4F9E-B3DE-4ACFABB98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5A05-B05B-4700-9D79-ECD4FC86E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50AD-60D1-40BD-A513-C63E57D10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B86E-5A8C-4D66-B4D9-BB17A953A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35FC-9BFC-4905-B13B-574C59AC8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3CE7-D510-4216-A6C7-56A3D9C88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5BAF-94BE-4AE7-A7AD-A40E681B0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cc66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3CAE-1D7B-4093-9B5F-49043A43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51000" y="635040"/>
            <a:ext cx="92700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79640" y="228600"/>
            <a:ext cx="672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6633"/>
                </a:solidFill>
                <a:latin typeface="Trebuchet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1200" y="365040"/>
            <a:ext cx="110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2394000"/>
          <a:ext cx="7925040" cy="3524040"/>
        </p:xfrm>
        <a:graphic>
          <a:graphicData uri="http://schemas.openxmlformats.org/drawingml/2006/table">
            <a:tbl>
              <a:tblPr/>
              <a:tblGrid>
                <a:gridCol w="914400"/>
                <a:gridCol w="1447920"/>
                <a:gridCol w="1035000"/>
                <a:gridCol w="1130400"/>
                <a:gridCol w="1133280"/>
                <a:gridCol w="1130400"/>
                <a:gridCol w="113364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formation Needed to Answer 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ion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ming and Location of Data Col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lan for Meaning Making from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23000" y="2025720"/>
            <a:ext cx="47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Gathering Data and Making Meaning from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4789-B013-4A46-AEDD-46E39FEC6A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2278080"/>
          <a:ext cx="6858000" cy="3691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Assistance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sible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950040" y="1924200"/>
            <a:ext cx="515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Assistance Needed to Carry out Data Collection 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AA0A-F1D7-49E6-BBD7-53D657EEE2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49400" y="2311560"/>
          <a:ext cx="7086600" cy="3458880"/>
        </p:xfrm>
        <a:graphic>
          <a:graphicData uri="http://schemas.openxmlformats.org/drawingml/2006/table">
            <a:tbl>
              <a:tblPr/>
              <a:tblGrid>
                <a:gridCol w="1417680"/>
                <a:gridCol w="1415880"/>
                <a:gridCol w="1417680"/>
                <a:gridCol w="1417680"/>
                <a:gridCol w="141768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do these discoverie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tter t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can take action on these discover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will we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/Where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19800" y="19303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Shar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FBD3-7B47-4658-B85D-FE1E17A52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1360" y="2236680"/>
          <a:ext cx="7772400" cy="3706560"/>
        </p:xfrm>
        <a:graphic>
          <a:graphicData uri="http://schemas.openxmlformats.org/drawingml/2006/table">
            <a:tbl>
              <a:tblPr/>
              <a:tblGrid>
                <a:gridCol w="1297080"/>
                <a:gridCol w="1293840"/>
                <a:gridCol w="1297080"/>
                <a:gridCol w="1293840"/>
                <a:gridCol w="1296720"/>
                <a:gridCol w="12938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ctions are neede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these actions improve student learning and succes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se needs to tak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we involve the necessary peop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are these actions needed (consider both short and long term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dditional inquiries are needed regarding th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1480" y="1873080"/>
            <a:ext cx="23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Us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1B05-0464-4FE6-AEAD-34F1C7DCE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5-21T17:13:50Z</dcterms:modified>
  <cp:revision>12</cp:revision>
  <dc:subject/>
  <dc:title>PowerPoint Presentation</dc:title>
</cp:coreProperties>
</file>