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7AB6-8DA0-4EDD-A1B6-001E763D1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56DC-7434-43DA-AF75-A7A1EAE8D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5E9B-4EAE-457F-9F86-A68E46014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6F71-6811-46B6-916C-7C8340511D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41FC9-DAB5-45E2-9E3C-B31436443A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5C93-80D6-4E9E-B87D-08A65A7A2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1E8E-FA5A-4568-929D-FF366696F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B1C8-2A16-4EB2-972C-F167ABBBE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9872-08FA-4AEA-8FA6-8A2BDBFE0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F07B-3A31-4F00-8D26-9F61C1E7B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C510-AC7D-44AB-A06C-0F2769140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FF16-B375-4AD4-A13F-D04E083A7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33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cc66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cc66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cc66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BF2F-3683-49AF-AF9A-71E0AC6A6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11040" y="584280"/>
            <a:ext cx="927360" cy="120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039680" y="177840"/>
            <a:ext cx="673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6633"/>
                </a:solidFill>
                <a:latin typeface="Trebuchet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01600" y="314280"/>
            <a:ext cx="110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33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33"/>
                </a:solidFill>
                <a:latin typeface="Trebuchet MS"/>
              </a:rPr>
              <a:t>Example Ground Rules</a:t>
            </a:r>
            <a:endParaRPr b="0" lang="en-US" sz="3600" spc="-1" strike="noStrike">
              <a:solidFill>
                <a:srgbClr val="cc6633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w resp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eryone particip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hedule meetings to fit the needs of the group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gin and end meetings on tim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termine tasks and responsibilities during the meeting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6p08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F559-0A4D-4595-9C05-B653E9120D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4-20T20:00:27Z</dcterms:modified>
  <cp:revision>18</cp:revision>
  <dc:subject/>
  <dc:title>PowerPoint Presentation</dc:title>
</cp:coreProperties>
</file>