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62A1-184F-4B50-82E9-51DED55D3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2F2E8-612E-463E-867D-7FA4DAF33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DEB4-58B8-4A65-9251-1B25DA909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424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076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772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424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076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5B335-AE5A-445C-8163-998146539A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645F7-E766-46AD-BCF0-BF63BBC202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1F3B5-DC6A-4B36-B38F-7AC1C905C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2F79-3A71-4006-9309-86F6D9F6A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9C444-2DF9-4A98-9D62-2B9EFFD59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666360"/>
            <a:ext cx="6477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E069E-378D-4A29-84E2-D72AA294F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10410-7A10-4F1E-9359-B6018DB9A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1A5F2-FBC3-4374-882F-F8D598015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5100F-D199-45F9-87E1-B97FAAA0D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336666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336666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336666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4928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1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63CD-5651-4C3D-B841-E95D98409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4496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May 2007 © InS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52280" y="6191280"/>
            <a:ext cx="1371600" cy="514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rcRect l="13460" t="20662" r="26197" b="20662"/>
          <a:stretch/>
        </p:blipFill>
        <p:spPr>
          <a:xfrm>
            <a:off x="368280" y="584280"/>
            <a:ext cx="959040" cy="120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90720" y="152280"/>
            <a:ext cx="6728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6666"/>
                </a:solidFill>
                <a:latin typeface="Trebuchet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66760" y="330120"/>
            <a:ext cx="109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66"/>
                </a:solidFill>
                <a:latin typeface="Trebuchet MS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Reflection Questions Concerning Data Collection</a:t>
            </a:r>
            <a:endParaRPr b="0" lang="en-US" sz="36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3580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data collection focus on and strengthen what is valuable and meaningful for student learning and succes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209680"/>
            <a:ext cx="7391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1. Conduct an inquiry that enhances student learning and succe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4p1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30CAF-E810-456D-89FB-7986296853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Reflection Questions Concerning Data Collection</a:t>
            </a:r>
            <a:endParaRPr b="0" lang="en-US" sz="36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228600" y="32004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 the questions in your data collection tools align well with your overall inquiry question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the questions in your data collections tools likely to lead to a deeper understanding about valued and meaningful issue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1981080"/>
            <a:ext cx="6477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2. Ask questions that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4p1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F2C15-419B-45E2-A8E0-E1CE051A7C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Reflection Questions Concerning Data Collection</a:t>
            </a:r>
            <a:endParaRPr b="0" lang="en-US" sz="36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9810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3. Create a safe, hospitable, </a:t>
            </a:r>
            <a:br>
              <a:rPr sz="3200"/>
            </a:b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engaging environment.</a:t>
            </a: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ill your data collection be conducted in a trusting environment where people with differing perspectives feel physically and emotionally saf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ill your data collection be conducted in familiar surroundings to increase the comfort of your source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your data collection process designed to be conducted at a pace and with responsibilities that are reasonable for your sources and those collecting the data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4p1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D7831-0C62-4260-A868-763CF601C1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data collection process provide a means for CLIP members to contribute in ways that allow for each person’s uniqueness and specific circumstance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2133720"/>
            <a:ext cx="6477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 </a:t>
            </a: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4. Encourage and appreciate each person’s unique contribution.</a:t>
            </a: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685800"/>
            <a:ext cx="6476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Reflection Questions Concerning Data Col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4p1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9BC92-FBDD-422B-8455-5693C4987F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Reflection Questions Concerning Data Collection</a:t>
            </a:r>
            <a:endParaRPr b="0" lang="en-US" sz="36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3047760"/>
            <a:ext cx="76201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es your data collection process provide a means to build relationships within the CLIP and with others in order to generate and spread creative ideas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es your data collection process provide a means to encourage renewal and innovation in learning and practice to keep pace with changing social conditions, knowledge, and student population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2133720"/>
            <a:ext cx="6477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5.  Build relationships that rejuvenate professional practice.</a:t>
            </a: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4p1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788A-D5A7-4778-82CD-971947857F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Reflection Questions Concerning Data Collection</a:t>
            </a:r>
            <a:endParaRPr b="0" lang="en-US" sz="36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358092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data collection process allow for the unexpected? Does it allow for a diversity of participants and points of view to be heard?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20968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6. Create authentic, open-minded dialogue that brings out diverse perspectives.</a:t>
            </a:r>
            <a:r>
              <a:rPr b="0" lang="en-US" sz="3200" spc="-1" strike="noStrike">
                <a:solidFill>
                  <a:srgbClr val="336666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4p1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8AB7-DE6A-4314-A159-C2017FDF07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Reflection Questions Concerning Data Collection</a:t>
            </a:r>
            <a:endParaRPr b="0" lang="en-US" sz="36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342900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data collection approach provide for individual and collective reflective listening, observing, and thinking as a way to evoke deep insights and see emerging patterns and connection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1981080"/>
            <a:ext cx="6095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7. Engage in individual and collective reflection.</a:t>
            </a:r>
            <a:r>
              <a:rPr b="0" lang="en-US" sz="3200" spc="-1" strike="noStrike">
                <a:solidFill>
                  <a:srgbClr val="336666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4p1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DF70B-2BD6-406C-8FD4-B23D3D0058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rebuchet MS"/>
              </a:rPr>
              <a:t>Reflection Questions Concerning Data Collection</a:t>
            </a:r>
            <a:endParaRPr b="0" lang="en-US" sz="3600" spc="-1" strike="noStrike">
              <a:solidFill>
                <a:srgbClr val="33666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34290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data collection approach attend to relationships, logical thinking, and the intentions that create meaningful, ongoing action to benefit students over tim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133720"/>
            <a:ext cx="8686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8. Generate sustained, </a:t>
            </a:r>
            <a:br>
              <a:rPr sz="3200"/>
            </a:br>
            <a:r>
              <a:rPr b="0" i="1" lang="en-US" sz="3200" spc="-1" strike="noStrike">
                <a:solidFill>
                  <a:srgbClr val="336666"/>
                </a:solidFill>
                <a:latin typeface="Georgia"/>
              </a:rPr>
              <a:t>inquiry-based practice.</a:t>
            </a:r>
            <a:r>
              <a:rPr b="0" lang="en-US" sz="3200" spc="-1" strike="noStrike">
                <a:solidFill>
                  <a:srgbClr val="336666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4p1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4EF54-FE9D-4959-8EA8-9F01FD4767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7:18:15Z</dcterms:created>
  <dc:creator>Kathy Wyckoff</dc:creator>
  <dc:description/>
  <dc:language>en-US</dc:language>
  <cp:lastModifiedBy>Kathy Wyckoff</cp:lastModifiedBy>
  <dcterms:modified xsi:type="dcterms:W3CDTF">2007-04-20T20:07:35Z</dcterms:modified>
  <cp:revision>15</cp:revision>
  <dc:subject/>
  <dc:title>PowerPoint Presentation</dc:title>
</cp:coreProperties>
</file>