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4F408-5D7D-46C6-94B1-5ECB2480A4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7720" y="41666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85A85-7B99-43B4-8AB6-81D1915DA9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4264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08FFB-8A3C-4B6C-9C78-F4B0854D40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1424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9076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772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1424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9076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774FD-9767-4669-9BDD-0210607DE4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BF073-0286-4656-87E3-4C0CA3EED1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3D772-0C30-4120-8FBE-347CC14A58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1324F-6F1E-4B45-966A-974265C20F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014F2-599F-4AAE-947A-6767B2F822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057400" y="666360"/>
            <a:ext cx="64771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98FFD-83AC-4D97-A40A-DF55AAD010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5881E-11BB-4AA4-80A3-90042B16BE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264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82CD4-E307-445C-A546-E36C490776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1F815-57DD-482F-B569-CB9D537FB5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ff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cc66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27920" indent="-280080">
              <a:spcBef>
                <a:spcPts val="799"/>
              </a:spcBef>
              <a:buClr>
                <a:srgbClr val="cc66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19960" indent="-223920">
              <a:spcBef>
                <a:spcPts val="799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568160" indent="-223920">
              <a:spcBef>
                <a:spcPts val="799"/>
              </a:spcBef>
              <a:buClr>
                <a:srgbClr val="cc66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16000" indent="-223920">
              <a:spcBef>
                <a:spcPts val="799"/>
              </a:spcBef>
              <a:buClr>
                <a:srgbClr val="cc66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49280" y="6501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3241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250C-1F0F-4594-A916-B46313E59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44960" y="63244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May 2007 © InSi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52280" y="6191280"/>
            <a:ext cx="1371600" cy="5144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351000" y="635040"/>
            <a:ext cx="927000" cy="120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079640" y="228600"/>
            <a:ext cx="6728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6633"/>
                </a:solidFill>
                <a:latin typeface="Trebuchet MS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41200" y="365040"/>
            <a:ext cx="110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6633"/>
                </a:solidFill>
                <a:latin typeface="Trebuchet MS"/>
              </a:rPr>
              <a:t>Modu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rebuchet MS"/>
              </a:rPr>
              <a:t>CLIP Inquiry Plan Template</a:t>
            </a:r>
            <a:endParaRPr b="0" lang="en-US" sz="3200" spc="-1" strike="noStrike">
              <a:solidFill>
                <a:srgbClr val="cc6600"/>
              </a:solidFill>
              <a:latin typeface="Trebuchet MS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09480" y="2394000"/>
          <a:ext cx="7925040" cy="3524040"/>
        </p:xfrm>
        <a:graphic>
          <a:graphicData uri="http://schemas.openxmlformats.org/drawingml/2006/table">
            <a:tbl>
              <a:tblPr/>
              <a:tblGrid>
                <a:gridCol w="914400"/>
                <a:gridCol w="1447920"/>
                <a:gridCol w="1035000"/>
                <a:gridCol w="1130400"/>
                <a:gridCol w="1133280"/>
                <a:gridCol w="1130400"/>
                <a:gridCol w="1133640"/>
              </a:tblGrid>
              <a:tr h="92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quiry Ques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formation Needed to Answer Inquiry Ques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ata Sour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ata Collection Metho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ata Collec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iming and Location of Data Coll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lan for Meaning Making from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8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8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5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423000" y="2025720"/>
            <a:ext cx="47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6600"/>
                </a:solidFill>
                <a:latin typeface="Georgia"/>
              </a:rPr>
              <a:t>Gathering Data and Making Meaning from Da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6p120.5-21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F0F4C-0ED6-4D97-9987-B473237FA5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rebuchet MS"/>
              </a:rPr>
              <a:t>CLIP Inquiry Plan Template</a:t>
            </a:r>
            <a:endParaRPr b="0" lang="en-US" sz="3200" spc="-1" strike="noStrike">
              <a:solidFill>
                <a:srgbClr val="cc6600"/>
              </a:solidFill>
              <a:latin typeface="Trebuchet MS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143000" y="2278080"/>
          <a:ext cx="6858000" cy="36910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ype of Assistance Nee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ossible Sour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950040" y="1924200"/>
            <a:ext cx="515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6600"/>
                </a:solidFill>
                <a:latin typeface="Georgia"/>
              </a:rPr>
              <a:t>Assistance Needed to Carry out Data Collection Pl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6p120.5-21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A44AF-7A1C-4B4B-8222-0F6B66DAAC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rebuchet MS"/>
              </a:rPr>
              <a:t>CLIP Inquiry Plan Template</a:t>
            </a:r>
            <a:endParaRPr b="0" lang="en-US" sz="3200" spc="-1" strike="noStrike">
              <a:solidFill>
                <a:srgbClr val="cc6600"/>
              </a:solidFill>
              <a:latin typeface="Trebuchet MS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049400" y="2311560"/>
          <a:ext cx="7086600" cy="3458880"/>
        </p:xfrm>
        <a:graphic>
          <a:graphicData uri="http://schemas.openxmlformats.org/drawingml/2006/table">
            <a:tbl>
              <a:tblPr/>
              <a:tblGrid>
                <a:gridCol w="1417680"/>
                <a:gridCol w="1415880"/>
                <a:gridCol w="1417680"/>
                <a:gridCol w="1417680"/>
                <a:gridCol w="1417680"/>
              </a:tblGrid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ho do these discoveries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atter to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ho can take action on these discoveri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hat will we shar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ow/Where will we  shar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hen will we  shar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919800" y="1930320"/>
            <a:ext cx="25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6600"/>
                </a:solidFill>
                <a:latin typeface="Georgia"/>
              </a:rPr>
              <a:t>Sharing CLIP Discov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6p120.5-21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5C084-3C3E-4899-9F25-5408FA9F08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rebuchet MS"/>
              </a:rPr>
              <a:t>CLIP Inquiry Plan Template</a:t>
            </a:r>
            <a:endParaRPr b="0" lang="en-US" sz="3200" spc="-1" strike="noStrike">
              <a:solidFill>
                <a:srgbClr val="cc6600"/>
              </a:solidFill>
              <a:latin typeface="Trebuchet MS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11360" y="2236680"/>
          <a:ext cx="7772400" cy="3706560"/>
        </p:xfrm>
        <a:graphic>
          <a:graphicData uri="http://schemas.openxmlformats.org/drawingml/2006/table">
            <a:tbl>
              <a:tblPr/>
              <a:tblGrid>
                <a:gridCol w="1297080"/>
                <a:gridCol w="1293840"/>
                <a:gridCol w="1297080"/>
                <a:gridCol w="1293840"/>
                <a:gridCol w="1296720"/>
                <a:gridCol w="129384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hat actions are needed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ow will these actions improve student learning and succes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hose needs to take ac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ow will we involve the necessary peopl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hen are these actions needed (consider both short and long term)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hat additional inquiries are needed regarding the ac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0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0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591480" y="1873080"/>
            <a:ext cx="23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6600"/>
                </a:solidFill>
                <a:latin typeface="Georgia"/>
              </a:rPr>
              <a:t>Using CLIP Discov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6p120.5-21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8BF3D-C66F-46AB-98E7-D488C8A5C5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7:18:15Z</dcterms:created>
  <dc:creator>Kathy Wyckoff</dc:creator>
  <dc:description/>
  <dc:language>en-US</dc:language>
  <cp:lastModifiedBy>Kathy Wyckoff</cp:lastModifiedBy>
  <dcterms:modified xsi:type="dcterms:W3CDTF">2007-05-21T17:13:50Z</dcterms:modified>
  <cp:revision>12</cp:revision>
  <dc:subject/>
  <dc:title>PowerPoint Presentation</dc:title>
</cp:coreProperties>
</file>