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9A31D-6C99-4B5C-B85E-FBE27AD4F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8FB5-93E3-412B-BDE5-BFE2C5549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9A05E-6AC4-440A-9925-444F06E0E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9845E-F6BA-4AB4-A3AB-2D5C09F99B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E5C43-CE98-4540-BC4B-C45FCBC63D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79E7-075B-483E-A887-F29B0BE81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97244-C850-4134-895E-1EFEDC206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408A-C166-449C-94B6-654CEFAAF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14A03-59D2-415B-B29C-C932F531B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3A07F-248C-42D7-A203-AD7CDB69A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1B10-0670-4FDD-827E-28DF8D2A4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4FAD-1A2B-4CF0-84A7-C55442E45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74840" y="65275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7360" y="200160"/>
            <a:ext cx="1231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9933"/>
                </a:solidFill>
                <a:latin typeface="Trebuchet MS"/>
              </a:rPr>
              <a:t> </a:t>
            </a:r>
            <a:r>
              <a:rPr b="0" lang="en-US" sz="1300" spc="-1" strike="noStrike">
                <a:solidFill>
                  <a:srgbClr val="cc9933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49200" y="457200"/>
            <a:ext cx="914400" cy="1324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79640" y="206280"/>
            <a:ext cx="6728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9933"/>
                </a:solidFill>
                <a:latin typeface="Trebuchet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1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D695-127A-4788-AD9C-BD843F738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rebuchet MS"/>
              </a:rPr>
              <a:t>Eight Guiding Principles for CLIPs</a:t>
            </a: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2131560"/>
            <a:ext cx="7620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nduct inquiry that enhances student learning and success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sk questions that matter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reate a safe, hospitable, engaging environment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ncourage and appreciate each person’s unique contribution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2p020.4-16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022C-378E-49EF-B244-CA9ECE1766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rebuchet MS"/>
              </a:rPr>
              <a:t>Eight Guiding Principles for CLIPs</a:t>
            </a: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3962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Build relationships that rejuvenate professional practic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42160" indent="-542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reate authentic, open-minded dialogue that brings out diverse perspective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42160" indent="-542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ngage in individual and collective reflection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42160" indent="-542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Generate sustained, inquiry-based practic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2p020.4-16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F2248-4D8D-4014-A146-8B5D828A2B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5-21T16:54:24Z</dcterms:modified>
  <cp:revision>6</cp:revision>
  <dc:subject/>
  <dc:title>PowerPoint Presentation</dc:title>
</cp:coreProperties>
</file>