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8C07-BD06-41C9-8376-CB4D0FA7F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9494-FFAD-4817-A5E8-C77D1B499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F817-F5DC-4BBC-B7A9-F5DD90DC8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DE22B-CD08-4D9B-B70B-A754A287D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C97B-66FE-47D5-91AB-15201A818A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DED6-9C7F-4F45-86D2-5F98D1427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B5FC-0B74-48F5-B58F-942DE8B02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8E48-8DF0-46CF-B463-AA7EE0424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AA9E-D70B-41FA-A625-37E832EC8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8AC5-01EA-4CDC-9743-712502935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1C0F-EC44-47EB-91E0-E046CC387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8199-7AB8-4600-886F-9F1768E3B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99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99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9999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9C0A-4083-48AB-BFD6-3AB08D7DF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34800" y="615960"/>
            <a:ext cx="973440" cy="1212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079640" y="856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Trebuchet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08080" y="358920"/>
            <a:ext cx="1231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         </a:t>
            </a: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37335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inquiry focus on and strengthen what is valuable and meaningful for student learning and succes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36232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1. Conduct an inquiry that enhances student learning and suc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5446-B136-47AF-B0E6-BF42FF69AF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your questions focus on issues related to student learning and success that you, students, and others truly care about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your questions lead to deeper understanding about valued and meaningful issue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1981080"/>
            <a:ext cx="6477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2. Ask questions that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9F7C-F845-4D26-B2D8-A8BC58869D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895480"/>
            <a:ext cx="88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es your inquiry design help to create a trusting environment where people with differing perspectives feel physically and emotionally saf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 your inquiry designed to include familiar as well as new ideas and events?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 your inquiry designed to be conducted at a pace that is reasonable for all involved? Are the roles/responsibilities reasonable for all involved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05740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3. Create a safe, hospitable, </a:t>
            </a:r>
            <a:br>
              <a:rPr sz="3200"/>
            </a:b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engaging environment.</a:t>
            </a: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4AD3-9377-4A54-AF0C-650374FBA7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inquiry plan provide a means for everyone to contribute in ways that allow for each person’s uniqueness and specific circumstanc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13372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 </a:t>
            </a: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4. Encourage and appreciate each person’s unique contribution.</a:t>
            </a: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2732-C664-436B-8E4D-FB843AE2A9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31240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es your inquiry plan provide a means to build relationships within the CLIP and with others in order to generate and spread creative ideas?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es your inquiry plan provide a means to encourage renewal and innovation in learning and practice to keep pace with changing social conditions, knowledge, and student population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2209680"/>
            <a:ext cx="6477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5.  Build relationships that rejuvenate professional practice.</a:t>
            </a: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C9AC-9913-4231-9C8E-94E9300166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37335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inquiry plan allow for the unexpected? Does it allow for a diversity of participants and points of view to be heard?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362320"/>
            <a:ext cx="8001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6. Create authentic, open-minded dialogue that brings out diverse perspectives.</a:t>
            </a:r>
            <a:r>
              <a:rPr b="0" lang="en-US" sz="3200" spc="-1" strike="noStrike">
                <a:solidFill>
                  <a:srgbClr val="009999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403B-23E4-4712-81B1-5564A79252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inquiry plan provide for individual and collective reflective listening, observing, and thinking as a way to evoke deep insights and see emerging patterns and connection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1981080"/>
            <a:ext cx="6095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7. Engage in individual and collective reflection.</a:t>
            </a: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8E78-1112-44B9-A51E-727F17FDF8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inquiry plan attend to relationships, logical thinking, and the will to act in ways that will generate meaningful, ongoing professional practice to benefit student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1337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8. Generate sustained, </a:t>
            </a:r>
            <a:br>
              <a:rPr sz="3200"/>
            </a:b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inquiry-based practice.</a:t>
            </a:r>
            <a:r>
              <a:rPr b="0" lang="en-US" sz="3200" spc="-1" strike="noStrike">
                <a:solidFill>
                  <a:srgbClr val="009999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A418-44EB-4F5D-800C-D211139F47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20:08:14Z</dcterms:modified>
  <cp:revision>13</cp:revision>
  <dc:subject/>
  <dc:title>PowerPoint Presentation</dc:title>
</cp:coreProperties>
</file>