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424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0760" y="20574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424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0760" y="41666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666360"/>
            <a:ext cx="6477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2640" y="41666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20574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1666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49280" y="65149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34800" y="615960"/>
            <a:ext cx="973440" cy="1212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79640" y="85680"/>
            <a:ext cx="672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080" y="35892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         </a:t>
            </a:r>
            <a:r>
              <a:rPr b="0" lang="en-US" sz="1300" spc="-1" strike="noStrike">
                <a:solidFill>
                  <a:srgbClr val="669999"/>
                </a:solidFill>
                <a:latin typeface="Trebuchet MS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34320" y="632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6FB-78B2-4AF9-8E52-9B4F9998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4496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May 2007 © InS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152280" y="6191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is important to you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draws you to involvement in a CLIP and inquiry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opportunities do you see in this CLIP inquiry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do we know so far and what do we still need to know about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ssumptions do we have about student learning and success that we need to test or challeng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re some beliefs about student learning and success that are very different from our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question, if answered, could make a major difference in terms of student learning and success among our first year student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needs our immediate attention related to student learning and succes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666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rebuchet MS"/>
              </a:rPr>
              <a:t>Key Questions about Student Learning and Success</a:t>
            </a:r>
            <a:endParaRPr b="0" lang="en-US" sz="3200" spc="-1" strike="noStrike">
              <a:solidFill>
                <a:srgbClr val="0099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30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nk about a student(s) you know who has succeeded at this college. What contribution did you make to this student’s success?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>
              <a:spcBef>
                <a:spcPts val="751"/>
              </a:spcBef>
              <a:buClr>
                <a:srgbClr val="000000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at do you value about your role? What are three wishes you hold for your department/college in relation to student learning and succes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P.07.M3040.4-2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7:18:15Z</dcterms:created>
  <dc:creator>Kathy Wyckoff</dc:creator>
  <dc:description/>
  <dc:language>en-US</dc:language>
  <cp:lastModifiedBy>Kathy Wyckoff</cp:lastModifiedBy>
  <dcterms:modified xsi:type="dcterms:W3CDTF">2007-04-20T18:21:21Z</dcterms:modified>
  <cp:revision>7</cp:revision>
  <dc:subject/>
  <dc:title>PowerPoint Presentation</dc:title>
</cp:coreProperties>
</file>