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46CBA-C5A0-4FCB-8B99-A1391D317B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7720" y="41666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35927-05C6-402B-95D4-330A2E8F6B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4264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59944-615C-419D-B125-5CD45D97CE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1424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9076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772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1424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9076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C6CC5-EE68-4CA8-86FF-9A44C33A96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BE260-84B0-4627-B2DA-ADDF8CAFF9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89D42-CE0C-4BA1-BD43-F92FE232DF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8A65A-DB44-44AD-9F18-AE446DE148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9EBBC-14D6-432F-BE16-FCA3956D8E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057400" y="666360"/>
            <a:ext cx="64771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B5615-0EB0-4356-924E-3086E67AE0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021F3-CE4D-4606-B072-943478F501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264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A0875-CF61-4FBA-9578-E768862E8E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4232F-1FC6-4758-9BFA-48A90D1005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ff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33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27920" indent="-280080">
              <a:spcBef>
                <a:spcPts val="799"/>
              </a:spcBef>
              <a:buClr>
                <a:srgbClr val="cc66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19960" indent="-223920">
              <a:spcBef>
                <a:spcPts val="799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568160" indent="-223920">
              <a:spcBef>
                <a:spcPts val="799"/>
              </a:spcBef>
              <a:buClr>
                <a:srgbClr val="cc66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16000" indent="-223920">
              <a:spcBef>
                <a:spcPts val="799"/>
              </a:spcBef>
              <a:buClr>
                <a:srgbClr val="cc66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49280" y="6501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3241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9867-99BA-40F8-A02D-CE9AEF019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44960" y="63244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May 2007 © InSi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52280" y="6191280"/>
            <a:ext cx="1371600" cy="5144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311040" y="584280"/>
            <a:ext cx="927360" cy="120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039680" y="177840"/>
            <a:ext cx="6732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6633"/>
                </a:solidFill>
                <a:latin typeface="Trebuchet MS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01600" y="314280"/>
            <a:ext cx="110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6633"/>
                </a:solidFill>
                <a:latin typeface="Trebuchet MS"/>
              </a:rPr>
              <a:t>Modu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33"/>
                </a:solidFill>
                <a:latin typeface="Trebuchet MS"/>
              </a:rPr>
              <a:t>Roles of CLIP Members</a:t>
            </a:r>
            <a:endParaRPr b="0" lang="en-US" sz="36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00200" y="220932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rticipa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acilitat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bserv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cord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imekeep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6p100.4-20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C26D8-DC84-4560-A5DC-EDC1D63966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7:18:15Z</dcterms:created>
  <dc:creator>Kathy Wyckoff</dc:creator>
  <dc:description/>
  <dc:language>en-US</dc:language>
  <cp:lastModifiedBy>Kathy Wyckoff</cp:lastModifiedBy>
  <dcterms:modified xsi:type="dcterms:W3CDTF">2007-04-20T20:04:50Z</dcterms:modified>
  <cp:revision>20</cp:revision>
  <dc:subject/>
  <dc:title>PowerPoint Presentation</dc:title>
</cp:coreProperties>
</file>