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1AEE55-5A11-41DD-9A82-913DF7A577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057400" y="6663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33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205740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837720" y="416664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A73313-CC23-459E-88AD-577960B2FA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057400" y="6663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33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7720" y="205740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42640" y="205740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37720" y="416664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42640" y="416664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5675D9-EB53-405A-9297-300D8AE794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57400" y="6663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33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837720" y="205740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414240" y="205740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90760" y="205740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837720" y="416664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414240" y="416664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90760" y="416664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62F586-F51D-43F0-948D-536D78C02D7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057400" y="6663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33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837720" y="205740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0A5466-8780-4B7F-B02B-C6A04950C9C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057400" y="6663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33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37720" y="205740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A063A4-8709-4C15-BE3B-80D831222E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057400" y="6663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33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7720" y="205740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2640" y="205740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3BFCE5-29CA-4733-B692-E13D52FEC3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057400" y="6663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33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4CD5CA-13F2-493A-8554-3D08DCEB5E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2057400" y="666360"/>
            <a:ext cx="647712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2032A9-2CDC-4BAA-B3E7-1082628025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057400" y="6663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33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7720" y="205740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42640" y="205740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837720" y="416664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544A67-0E29-4391-A478-F8328FA4A5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057400" y="6663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33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205740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42640" y="205740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42640" y="416664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A9896A-02C7-4763-B67B-8B5A069371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057400" y="6663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33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205740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42640" y="205740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37720" y="416664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8A709E-42BF-475F-B324-62318477C9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bff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057400" y="6663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33"/>
                </a:solidFill>
                <a:latin typeface="Trebuchet MS"/>
              </a:rPr>
              <a:t>Click to edit the title text format</a:t>
            </a:r>
            <a:endParaRPr b="0" lang="en-US" sz="3200" spc="-1" strike="noStrike">
              <a:solidFill>
                <a:srgbClr val="cc6633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37720" y="205740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cc66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27920" indent="-280080">
              <a:spcBef>
                <a:spcPts val="799"/>
              </a:spcBef>
              <a:buClr>
                <a:srgbClr val="cc66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119960" indent="-223920">
              <a:spcBef>
                <a:spcPts val="799"/>
              </a:spcBef>
              <a:buClr>
                <a:srgbClr val="cc66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568160" indent="-223920">
              <a:spcBef>
                <a:spcPts val="799"/>
              </a:spcBef>
              <a:buClr>
                <a:srgbClr val="cc66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2016000" indent="-223920">
              <a:spcBef>
                <a:spcPts val="799"/>
              </a:spcBef>
              <a:buClr>
                <a:srgbClr val="cc66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149280" y="6501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933960" y="632412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54F08-FD06-48BE-8847-C68EB14627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144960" y="632448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May 2007 © InSit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152280" y="6191280"/>
            <a:ext cx="1371600" cy="51444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311040" y="584280"/>
            <a:ext cx="927360" cy="120636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1039680" y="177840"/>
            <a:ext cx="67320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6633"/>
                </a:solidFill>
                <a:latin typeface="Trebuchet MS"/>
              </a:rPr>
              <a:t>6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201600" y="314280"/>
            <a:ext cx="1106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cc6633"/>
                </a:solidFill>
                <a:latin typeface="Trebuchet MS"/>
              </a:rPr>
              <a:t>Modul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057400" y="6663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6633"/>
                </a:solidFill>
                <a:latin typeface="Trebuchet MS"/>
              </a:rPr>
              <a:t>Example Ground Rules</a:t>
            </a:r>
            <a:endParaRPr b="0" lang="en-US" sz="3600" spc="-1" strike="noStrike">
              <a:solidFill>
                <a:srgbClr val="cc6633"/>
              </a:solidFill>
              <a:latin typeface="Trebuchet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37720" y="2133360"/>
            <a:ext cx="76201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66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how respect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01"/>
              </a:spcBef>
              <a:buClr>
                <a:srgbClr val="cc66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Everyone participate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01"/>
              </a:spcBef>
              <a:buClr>
                <a:srgbClr val="cc66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chedule meetings to fit the needs of the group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01"/>
              </a:spcBef>
              <a:buClr>
                <a:srgbClr val="cc66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Begin and end meetings on time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01"/>
              </a:spcBef>
              <a:buClr>
                <a:srgbClr val="cc66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Determine tasks and responsibilities during the meetings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01"/>
              </a:spcBef>
              <a:buClr>
                <a:srgbClr val="cc66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01"/>
              </a:spcBef>
              <a:buClr>
                <a:srgbClr val="cc66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P.07.M6p080.4-20.pp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515228-16C9-4BF1-B167-6C29C491EBC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6T17:18:15Z</dcterms:created>
  <dc:creator>Kathy Wyckoff</dc:creator>
  <dc:description/>
  <dc:language>en-US</dc:language>
  <cp:lastModifiedBy>Kathy Wyckoff</cp:lastModifiedBy>
  <dcterms:modified xsi:type="dcterms:W3CDTF">2007-04-20T20:00:27Z</dcterms:modified>
  <cp:revision>18</cp:revision>
  <dc:subject/>
  <dc:title>PowerPoint Presentation</dc:title>
</cp:coreProperties>
</file>