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74840" y="65019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34320" y="632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0C88-DE05-48F0-8747-6B34383D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Facilitating Peer Study Groups in STEM Courses (Sample Concept Map)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2209680"/>
            <a:ext cx="8382240" cy="3071880"/>
            <a:chOff x="380880" y="2209680"/>
            <a:chExt cx="8382240" cy="3071880"/>
          </a:xfrm>
        </p:grpSpPr>
        <p:sp>
          <p:nvSpPr>
            <p:cNvPr id="48" name=""/>
            <p:cNvSpPr/>
            <p:nvPr/>
          </p:nvSpPr>
          <p:spPr>
            <a:xfrm flipV="1">
              <a:off x="1360440" y="3430080"/>
              <a:ext cx="0" cy="654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804000" y="3746520"/>
              <a:ext cx="434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2209680"/>
              <a:ext cx="20145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Previous Assumpt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 participation in instructor-led discussion sessions correlates positively with test score and homework completion ra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7440" y="3322800"/>
              <a:ext cx="228600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Inquiry f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hat are the peer study needs of STEM students, and how can those be addressed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88120" y="4410000"/>
              <a:ext cx="1633320" cy="847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Faculty create formal peer study groups and assign students to them. (o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8320" y="4084560"/>
              <a:ext cx="1633680" cy="11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ome students who attended faculty discussion sessions took the information to friends in informal study group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2286000"/>
              <a:ext cx="1752480" cy="81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s join informal peer study groups if they wish and if they find 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232000" y="4191120"/>
              <a:ext cx="434880" cy="438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43080" y="3757680"/>
              <a:ext cx="43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80120" y="3430440"/>
              <a:ext cx="1631880" cy="654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s need opportunities to join peer study group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24440" y="4084560"/>
              <a:ext cx="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149880" y="3105000"/>
              <a:ext cx="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8880" y="3322800"/>
              <a:ext cx="1524240" cy="86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Faculty or students inform students of informal peer study groups. (o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912000" y="3105000"/>
              <a:ext cx="32688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45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18:20:01Z</dcterms:modified>
  <cp:revision>9</cp:revision>
  <dc:subject/>
  <dc:title>PowerPoint Presentation</dc:title>
</cp:coreProperties>
</file>